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0E3-A3D2-406F-A5FB-8C58D48C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DC7-7B74-4982-AE16-BE6114F5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012-C6C5-4B56-B1A7-FA503224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C96-D276-4103-8EFA-FF3CD099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406-2790-4BE4-B8AD-26260C58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40A-6377-4B66-A39A-89E22D82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2ED-317D-4154-ACA3-A3C385B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029-7C3E-4C83-9E1C-31E353AA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2FB-C31B-4E38-B33D-AF7FEE62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F6F-FC3E-40A4-8BB4-93D09A2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65A-A613-43A2-A487-1696B919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7C0-4F50-44DD-B37C-A70BF998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2298-B20B-4EE1-89C2-F7E93FD4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let your food sit in su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esting to see if sunlight effects how fruit rott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sunlight will speed up decomposition because light has heat and heat causes fruit to r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ther all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lightened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dark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ine the fruit over a time period of 1-2 week and check it 2 tim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th Grade the fruit on how much it has rotten by seeing how soft it is on a scale of 1 to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pples, Bananas, 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pen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= Ligh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= How fast the fruit ro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=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1,2,3,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        1,2,3,4,5,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 1,1,2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 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RLING  USD376</cp:lastModifiedBy>
  <cp:lastPrinted>2009-04-22T19:24:48Z</cp:lastPrinted>
  <dcterms:modified xsi:type="dcterms:W3CDTF">2010-05-03T14:30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